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ED26A-149A-4C15-86E7-570C70015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01E75-49F7-4A3B-90F6-A41066713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D086A-F81E-424D-88F8-F1F434B61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5BDA3-9713-44D7-9C28-77314DBA0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DBC8A-6CEA-460A-B9BD-9EAD63990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B4E9A-0348-44B2-A3F7-6140C48B7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C8364-D155-4E51-BD22-6E11F56D8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FB8EB-145B-4524-9AC7-440433308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15B99-12CF-4966-BB7F-31C4CA91E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AECAF-DE8E-48A9-9D62-46EEC9020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87A9A-1489-472A-9E09-0B4F23039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C04E9-55D1-4567-BC8A-ED67FE149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8A2E1-9E6A-426A-93F9-859F185F5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E08B4-BE49-4F65-9A61-C6B6301BC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A1CA9-EFB6-44D4-A476-EE25418BD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3BA72-7141-4B2F-A3BF-B2D304193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4B8E4-27C5-4ECF-A299-3257097AF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B6775-B7FA-4DFE-B295-9F69C5166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366E9-46FC-4D91-A8B0-0E1EBA222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AABFE-4594-439C-ABA5-7516D1343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55037-FB29-4093-B901-0E125DDF0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24C01-44DB-4FB6-AD43-8FC4EEABB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A8EC3-F76E-4F11-9C4A-0EB2670F9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B05FF-A2A6-44BE-9E60-BC35D713C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E233A-E172-4960-BED9-6283F3471A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50B0C-0803-4008-8B00-F5E7BD172E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4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003366"/>
                </a:solidFill>
                <a:latin typeface="Times New Roman"/>
              </a:rPr>
              <a:t>CI43A </a:t>
            </a:r>
            <a:r>
              <a:rPr b="0" lang="es-CL" sz="4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s-CL" sz="4800" spc="-1" strike="noStrike">
                <a:solidFill>
                  <a:srgbClr val="003366"/>
                </a:solidFill>
                <a:latin typeface="Times New Roman"/>
              </a:rPr>
              <a:t>Taller IX</a:t>
            </a: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142640" y="5486400"/>
            <a:ext cx="62247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oordinador Taller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Rodrigo Henríquez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i43a@chile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371600" y="3657600"/>
            <a:ext cx="64008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Modelos de Asignación: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 Asignación Increment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3366"/>
                </a:solidFill>
                <a:latin typeface="Arial"/>
              </a:rPr>
              <a:t>Problema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447920" y="5105520"/>
            <a:ext cx="3276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Demanda de viajes</a:t>
            </a:r>
            <a:r>
              <a:rPr b="1" lang="es-ES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4260960" y="5257800"/>
                <a:ext cx="1111320" cy="4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4267080" y="5638680"/>
                <a:ext cx="1219320" cy="46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5" name=""/>
          <p:cNvSpPr/>
          <p:nvPr/>
        </p:nvSpPr>
        <p:spPr>
          <a:xfrm>
            <a:off x="3220920" y="156816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554520" y="236196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182920" y="259056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201840" y="26665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963600" y="228564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125520" y="350496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058840" y="236196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106600" y="159984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1830960" y="1294200"/>
            <a:ext cx="5200920" cy="3660120"/>
            <a:chOff x="1830960" y="1294200"/>
            <a:chExt cx="5200920" cy="3660120"/>
          </a:xfrm>
        </p:grpSpPr>
        <p:grpSp>
          <p:nvGrpSpPr>
            <p:cNvPr id="144" name=""/>
            <p:cNvGrpSpPr/>
            <p:nvPr/>
          </p:nvGrpSpPr>
          <p:grpSpPr>
            <a:xfrm>
              <a:off x="1830960" y="1294200"/>
              <a:ext cx="5200920" cy="3660120"/>
              <a:chOff x="1830960" y="1294200"/>
              <a:chExt cx="5200920" cy="3660120"/>
            </a:xfrm>
          </p:grpSpPr>
          <p:sp>
            <p:nvSpPr>
              <p:cNvPr id="145" name=""/>
              <p:cNvSpPr/>
              <p:nvPr/>
            </p:nvSpPr>
            <p:spPr>
              <a:xfrm>
                <a:off x="2035800" y="129420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1830960" y="449460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2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326280" y="1370520"/>
                <a:ext cx="383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2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631560" y="449460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2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9" name=""/>
              <p:cNvGrpSpPr/>
              <p:nvPr/>
            </p:nvGrpSpPr>
            <p:grpSpPr>
              <a:xfrm>
                <a:off x="2286000" y="1828800"/>
                <a:ext cx="4267080" cy="3048120"/>
                <a:chOff x="2286000" y="1828800"/>
                <a:chExt cx="4267080" cy="3048120"/>
              </a:xfrm>
            </p:grpSpPr>
            <p:sp>
              <p:nvSpPr>
                <p:cNvPr id="150" name=""/>
                <p:cNvSpPr/>
                <p:nvPr/>
              </p:nvSpPr>
              <p:spPr>
                <a:xfrm>
                  <a:off x="4191120" y="1828800"/>
                  <a:ext cx="152280" cy="152280"/>
                </a:xfrm>
                <a:prstGeom prst="octagon">
                  <a:avLst>
                    <a:gd name="adj" fmla="val 29287"/>
                  </a:avLst>
                </a:prstGeom>
                <a:solidFill>
                  <a:srgbClr val="0099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2286000" y="1828800"/>
                  <a:ext cx="152280" cy="152280"/>
                </a:xfrm>
                <a:prstGeom prst="octagon">
                  <a:avLst>
                    <a:gd name="adj" fmla="val 29287"/>
                  </a:avLst>
                </a:prstGeom>
                <a:solidFill>
                  <a:srgbClr val="0099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6400800" y="1828800"/>
                  <a:ext cx="152280" cy="152280"/>
                </a:xfrm>
                <a:prstGeom prst="octagon">
                  <a:avLst>
                    <a:gd name="adj" fmla="val 29287"/>
                  </a:avLst>
                </a:prstGeom>
                <a:solidFill>
                  <a:srgbClr val="0099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2286000" y="3124080"/>
                  <a:ext cx="152280" cy="152640"/>
                </a:xfrm>
                <a:prstGeom prst="octagon">
                  <a:avLst>
                    <a:gd name="adj" fmla="val 29287"/>
                  </a:avLst>
                </a:prstGeom>
                <a:solidFill>
                  <a:srgbClr val="0099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2286000" y="4648320"/>
                  <a:ext cx="152280" cy="152280"/>
                </a:xfrm>
                <a:prstGeom prst="octagon">
                  <a:avLst>
                    <a:gd name="adj" fmla="val 29287"/>
                  </a:avLst>
                </a:prstGeom>
                <a:solidFill>
                  <a:srgbClr val="0099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4191120" y="3124080"/>
                  <a:ext cx="152280" cy="152640"/>
                </a:xfrm>
                <a:prstGeom prst="octagon">
                  <a:avLst>
                    <a:gd name="adj" fmla="val 29287"/>
                  </a:avLst>
                </a:prstGeom>
                <a:solidFill>
                  <a:srgbClr val="0099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4114800" y="4648320"/>
                  <a:ext cx="152280" cy="152280"/>
                </a:xfrm>
                <a:prstGeom prst="octagon">
                  <a:avLst>
                    <a:gd name="adj" fmla="val 29287"/>
                  </a:avLst>
                </a:prstGeom>
                <a:solidFill>
                  <a:srgbClr val="0099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6400800" y="3124080"/>
                  <a:ext cx="152280" cy="152640"/>
                </a:xfrm>
                <a:prstGeom prst="octagon">
                  <a:avLst>
                    <a:gd name="adj" fmla="val 29287"/>
                  </a:avLst>
                </a:prstGeom>
                <a:solidFill>
                  <a:srgbClr val="0099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6400800" y="4724280"/>
                  <a:ext cx="152280" cy="152640"/>
                </a:xfrm>
                <a:prstGeom prst="octagon">
                  <a:avLst>
                    <a:gd name="adj" fmla="val 29287"/>
                  </a:avLst>
                </a:prstGeom>
                <a:solidFill>
                  <a:srgbClr val="0099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59" name=""/>
            <p:cNvGrpSpPr/>
            <p:nvPr/>
          </p:nvGrpSpPr>
          <p:grpSpPr>
            <a:xfrm>
              <a:off x="2362320" y="1905120"/>
              <a:ext cx="4114800" cy="2895480"/>
              <a:chOff x="2362320" y="1905120"/>
              <a:chExt cx="4114800" cy="2895480"/>
            </a:xfrm>
          </p:grpSpPr>
          <p:sp>
            <p:nvSpPr>
              <p:cNvPr id="160" name=""/>
              <p:cNvSpPr/>
              <p:nvPr/>
            </p:nvSpPr>
            <p:spPr>
              <a:xfrm>
                <a:off x="2666880" y="1905120"/>
                <a:ext cx="1447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4495680" y="1905120"/>
                <a:ext cx="1752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2362320" y="2057400"/>
                <a:ext cx="0" cy="990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2362320" y="3429000"/>
                <a:ext cx="0" cy="11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2514600" y="4800600"/>
                <a:ext cx="1447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4419720" y="4800600"/>
                <a:ext cx="1828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6477120" y="2133720"/>
                <a:ext cx="0" cy="91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6477120" y="3352680"/>
                <a:ext cx="0" cy="1295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2438280" y="2870280"/>
                <a:ext cx="1752840" cy="253800"/>
                <a:chOff x="2438280" y="2870280"/>
                <a:chExt cx="1752840" cy="253800"/>
              </a:xfrm>
            </p:grpSpPr>
            <p:sp>
              <p:nvSpPr>
                <p:cNvPr id="169" name=""/>
                <p:cNvSpPr/>
                <p:nvPr/>
              </p:nvSpPr>
              <p:spPr>
                <a:xfrm flipH="1">
                  <a:off x="2438280" y="3048120"/>
                  <a:ext cx="76320" cy="7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2514600" y="2870280"/>
                  <a:ext cx="1676520" cy="253800"/>
                </a:xfrm>
                <a:custGeom>
                  <a:avLst/>
                  <a:gdLst/>
                  <a:ahLst/>
                  <a:rect l="l" t="t" r="r" b="b"/>
                  <a:pathLst>
                    <a:path w="1056" h="160">
                      <a:moveTo>
                        <a:pt x="0" y="112"/>
                      </a:moveTo>
                      <a:cubicBezTo>
                        <a:pt x="72" y="96"/>
                        <a:pt x="144" y="80"/>
                        <a:pt x="240" y="64"/>
                      </a:cubicBezTo>
                      <a:cubicBezTo>
                        <a:pt x="336" y="48"/>
                        <a:pt x="440" y="0"/>
                        <a:pt x="576" y="16"/>
                      </a:cubicBezTo>
                      <a:cubicBezTo>
                        <a:pt x="712" y="32"/>
                        <a:pt x="884" y="96"/>
                        <a:pt x="1056" y="16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1" name=""/>
              <p:cNvGrpSpPr/>
              <p:nvPr/>
            </p:nvGrpSpPr>
            <p:grpSpPr>
              <a:xfrm>
                <a:off x="2514600" y="3276360"/>
                <a:ext cx="1828800" cy="241560"/>
                <a:chOff x="2514600" y="3276360"/>
                <a:chExt cx="1828800" cy="241560"/>
              </a:xfrm>
            </p:grpSpPr>
            <p:sp>
              <p:nvSpPr>
                <p:cNvPr id="172" name=""/>
                <p:cNvSpPr/>
                <p:nvPr/>
              </p:nvSpPr>
              <p:spPr>
                <a:xfrm>
                  <a:off x="2514600" y="3276720"/>
                  <a:ext cx="1676520" cy="241200"/>
                </a:xfrm>
                <a:custGeom>
                  <a:avLst/>
                  <a:gdLst/>
                  <a:ahLst/>
                  <a:rect l="l" t="t" r="r" b="b"/>
                  <a:pathLst>
                    <a:path w="1056" h="152">
                      <a:moveTo>
                        <a:pt x="0" y="0"/>
                      </a:moveTo>
                      <a:cubicBezTo>
                        <a:pt x="72" y="36"/>
                        <a:pt x="144" y="72"/>
                        <a:pt x="240" y="96"/>
                      </a:cubicBezTo>
                      <a:cubicBezTo>
                        <a:pt x="336" y="120"/>
                        <a:pt x="440" y="152"/>
                        <a:pt x="576" y="144"/>
                      </a:cubicBezTo>
                      <a:cubicBezTo>
                        <a:pt x="712" y="136"/>
                        <a:pt x="984" y="40"/>
                        <a:pt x="1056" y="48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 flipV="1">
                  <a:off x="4191120" y="3276360"/>
                  <a:ext cx="152280" cy="7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4" name=""/>
              <p:cNvGrpSpPr/>
              <p:nvPr/>
            </p:nvGrpSpPr>
            <p:grpSpPr>
              <a:xfrm>
                <a:off x="4419720" y="3276360"/>
                <a:ext cx="1828800" cy="241560"/>
                <a:chOff x="4419720" y="3276360"/>
                <a:chExt cx="1828800" cy="241560"/>
              </a:xfrm>
            </p:grpSpPr>
            <p:sp>
              <p:nvSpPr>
                <p:cNvPr id="175" name=""/>
                <p:cNvSpPr/>
                <p:nvPr/>
              </p:nvSpPr>
              <p:spPr>
                <a:xfrm>
                  <a:off x="4419720" y="3276720"/>
                  <a:ext cx="1676160" cy="241200"/>
                </a:xfrm>
                <a:custGeom>
                  <a:avLst/>
                  <a:gdLst/>
                  <a:ahLst/>
                  <a:rect l="l" t="t" r="r" b="b"/>
                  <a:pathLst>
                    <a:path w="1056" h="152">
                      <a:moveTo>
                        <a:pt x="0" y="0"/>
                      </a:moveTo>
                      <a:cubicBezTo>
                        <a:pt x="72" y="36"/>
                        <a:pt x="144" y="72"/>
                        <a:pt x="240" y="96"/>
                      </a:cubicBezTo>
                      <a:cubicBezTo>
                        <a:pt x="336" y="120"/>
                        <a:pt x="440" y="152"/>
                        <a:pt x="576" y="144"/>
                      </a:cubicBezTo>
                      <a:cubicBezTo>
                        <a:pt x="712" y="136"/>
                        <a:pt x="984" y="40"/>
                        <a:pt x="1056" y="48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 flipV="1">
                  <a:off x="6095880" y="3276360"/>
                  <a:ext cx="152640" cy="7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7" name=""/>
              <p:cNvGrpSpPr/>
              <p:nvPr/>
            </p:nvGrpSpPr>
            <p:grpSpPr>
              <a:xfrm>
                <a:off x="4419360" y="2819520"/>
                <a:ext cx="1752840" cy="253800"/>
                <a:chOff x="4419360" y="2819520"/>
                <a:chExt cx="1752840" cy="253800"/>
              </a:xfrm>
            </p:grpSpPr>
            <p:sp>
              <p:nvSpPr>
                <p:cNvPr id="178" name=""/>
                <p:cNvSpPr/>
                <p:nvPr/>
              </p:nvSpPr>
              <p:spPr>
                <a:xfrm flipH="1">
                  <a:off x="4419360" y="2997360"/>
                  <a:ext cx="75960" cy="7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4495680" y="2819520"/>
                  <a:ext cx="1676520" cy="253800"/>
                </a:xfrm>
                <a:custGeom>
                  <a:avLst/>
                  <a:gdLst/>
                  <a:ahLst/>
                  <a:rect l="l" t="t" r="r" b="b"/>
                  <a:pathLst>
                    <a:path w="1056" h="160">
                      <a:moveTo>
                        <a:pt x="0" y="112"/>
                      </a:moveTo>
                      <a:cubicBezTo>
                        <a:pt x="72" y="96"/>
                        <a:pt x="144" y="80"/>
                        <a:pt x="240" y="64"/>
                      </a:cubicBezTo>
                      <a:cubicBezTo>
                        <a:pt x="336" y="48"/>
                        <a:pt x="440" y="0"/>
                        <a:pt x="576" y="16"/>
                      </a:cubicBezTo>
                      <a:cubicBezTo>
                        <a:pt x="712" y="32"/>
                        <a:pt x="884" y="96"/>
                        <a:pt x="1056" y="16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0" name=""/>
              <p:cNvSpPr/>
              <p:nvPr/>
            </p:nvSpPr>
            <p:spPr>
              <a:xfrm flipV="1">
                <a:off x="4267080" y="2133720"/>
                <a:ext cx="0" cy="91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flipV="1">
                <a:off x="4267080" y="3428640"/>
                <a:ext cx="0" cy="11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2" name=""/>
          <p:cNvSpPr/>
          <p:nvPr/>
        </p:nvSpPr>
        <p:spPr>
          <a:xfrm>
            <a:off x="2966400" y="472392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427440" y="380952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084040" y="380952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182920" y="350496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106600" y="472392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912840" y="380952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4264200" y="6095880"/>
                <a:ext cx="993600" cy="4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d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8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5892840" y="5257800"/>
                <a:ext cx="969840" cy="4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5791320" y="5715000"/>
                <a:ext cx="1218960" cy="46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d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7531200" y="5257800"/>
                <a:ext cx="969840" cy="4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b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7467480" y="5638680"/>
                <a:ext cx="1219320" cy="46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d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Taller 9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143000" y="1066680"/>
            <a:ext cx="7772400" cy="502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Pregunta 1: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ncuentre el equilibrio o el óptimo del sistema para la red  mostrada en la figura anterior, usando el método de asignación incremental, con N=1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os incrementos a utilizar pueden ser constantes, es decir, iguales para todas las iteraciones, mayores al principio y menores al final, o viceversa. La elección de una estrategia para definir los incrementos es libre. Se premiará con puntaje adicional al grupo que logre mejor precis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uego de realizada la asignación, verifique la precisión obtenida comparando los costos o costos marginales por ruta según corresponda. Comente. Calcule los costos tota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2340000" y="1781280"/>
                <a:ext cx="206532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∗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6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2268360" y="2565360"/>
                <a:ext cx="2298960" cy="78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∗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2268360" y="3500280"/>
                <a:ext cx="1979640" cy="78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7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∗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3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2268360" y="4508640"/>
                <a:ext cx="197964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∗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4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2284560" y="5445000"/>
                <a:ext cx="2000160" cy="78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8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∗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5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7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6122880" y="1779480"/>
                <a:ext cx="2194200" cy="78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∗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6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8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1" name=""/>
              <p:cNvSpPr txBox="1"/>
              <p:nvPr/>
            </p:nvSpPr>
            <p:spPr>
              <a:xfrm>
                <a:off x="6122880" y="2571840"/>
                <a:ext cx="197964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∗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7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8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6124680" y="3436920"/>
                <a:ext cx="219240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∗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8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" name=""/>
              <p:cNvSpPr txBox="1"/>
              <p:nvPr/>
            </p:nvSpPr>
            <p:spPr>
              <a:xfrm>
                <a:off x="6141960" y="4437000"/>
                <a:ext cx="1959120" cy="78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∗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9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6084720" y="5373720"/>
                <a:ext cx="229896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8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∗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0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5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05" name=""/>
          <p:cNvSpPr/>
          <p:nvPr/>
        </p:nvSpPr>
        <p:spPr>
          <a:xfrm>
            <a:off x="1258920" y="692280"/>
            <a:ext cx="6626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s Funciones de Costo de los arcos presentes en el problema son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403280" y="198288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rco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403280" y="284652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rco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405080" y="3716280"/>
            <a:ext cx="9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rco 3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405080" y="4724280"/>
            <a:ext cx="9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rco 4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405080" y="5654520"/>
            <a:ext cx="9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rco 5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30920" y="1982880"/>
            <a:ext cx="9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rco 6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930920" y="2774880"/>
            <a:ext cx="9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rco 7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932360" y="3649680"/>
            <a:ext cx="9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rco 8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932360" y="4657680"/>
            <a:ext cx="9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rco 9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932360" y="558792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rco 10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3084480" y="844560"/>
                <a:ext cx="206388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∗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1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5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" name=""/>
              <p:cNvSpPr txBox="1"/>
              <p:nvPr/>
            </p:nvSpPr>
            <p:spPr>
              <a:xfrm>
                <a:off x="3071880" y="1628640"/>
                <a:ext cx="2108160" cy="78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8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∗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2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8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" name=""/>
              <p:cNvSpPr txBox="1"/>
              <p:nvPr/>
            </p:nvSpPr>
            <p:spPr>
              <a:xfrm>
                <a:off x="3051000" y="2492280"/>
                <a:ext cx="2386080" cy="78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∗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3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" name=""/>
              <p:cNvSpPr txBox="1"/>
              <p:nvPr/>
            </p:nvSpPr>
            <p:spPr>
              <a:xfrm>
                <a:off x="3062160" y="3500280"/>
                <a:ext cx="2214720" cy="78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∗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4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20" name=""/>
          <p:cNvSpPr/>
          <p:nvPr/>
        </p:nvSpPr>
        <p:spPr>
          <a:xfrm>
            <a:off x="1763640" y="105264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rco 1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763640" y="1844640"/>
            <a:ext cx="11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rco 1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765440" y="2719440"/>
            <a:ext cx="107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rco 13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765440" y="3727440"/>
            <a:ext cx="122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rco 14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0T14:12:32Z</dcterms:created>
  <dc:creator>F M</dc:creator>
  <dc:description/>
  <dc:language>en-US</dc:language>
  <cp:lastModifiedBy>Marcela Munizaga</cp:lastModifiedBy>
  <dcterms:modified xsi:type="dcterms:W3CDTF">2003-10-17T13:57:50Z</dcterms:modified>
  <cp:revision>30</cp:revision>
  <dc:subject/>
  <dc:title>CI 43A Análisis de Sistemas de Transporte </dc:title>
</cp:coreProperties>
</file>